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02120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203120" y="703440"/>
            <a:ext cx="4692600" cy="351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move the slide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402120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A4DD-3B35-4611-86C1-8FDC506C5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348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457880"/>
            <a:ext cx="56800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02120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8340-C10F-4125-9031-45A89306F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B15-296F-47C4-BB6D-14F67FA5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AD7-EEDD-4443-8305-6107E3C2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29E-8A0C-4243-88C6-E9763AE5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D96-5FE6-4B17-8E7E-ED8ADA46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716D-C08D-469A-AEFF-26A78104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0DE3-F85E-44A3-95AD-B0D39DD8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24C7-89FF-4FAC-BEC0-D94143C4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2EC2-5553-4B76-89BC-DEE16B46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CBDF-AC3A-4E0C-93C6-91D186E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5C06-062C-4ABC-97FC-5A2AAF44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E3A2-49B2-4605-AD92-757757E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038-569F-4194-A6E1-8970CF12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FEEB-38BE-4B2A-9A65-BE8B4B64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F8FA-358A-49BD-9665-2314496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6C9E-18CA-4E6D-9788-9C1EAA55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52EA-59B6-4F74-8AE8-FDEAA29D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6D24-D60D-4808-A013-69357A3A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49E1-043D-40FE-9AFB-96E797BE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F1CB-C471-400F-8623-8DB98634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EB1A-0433-45FE-AF4D-FEC8AB56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056D-E425-467B-ADE3-3099F4A4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C583-271F-4A91-8A75-CEAC2A64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B79-4876-44E8-80D3-E0EFF02D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CC20-EF96-4282-9EB1-78A104A5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4070-0B3A-42E2-934D-7A062CF7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3306-F9C8-48CC-AE88-AD597F94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F5D4-8D59-4055-9C92-5F3A0635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C143-F614-4D05-A238-68700A40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4FD0-ABC1-45AC-8522-09483944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35EC-E682-4B21-93CE-CC66AA06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2D6-323C-4EA8-AE4D-D87750D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777-55B7-42A2-B625-A25894B4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46A-DDC3-454C-B416-54B7CBEE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5A6-8A00-494A-B9EA-4ED9A982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A23-520B-4C6D-817D-E33D0926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A20-81C3-4A95-BD67-18EE1DE0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AAE8-2EEC-4285-86BC-90BEB1A1D4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eece1"/>
                </a:solidFill>
                <a:latin typeface="Brush Script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Brush Script MT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eece1"/>
                </a:solidFill>
                <a:latin typeface="Brush Script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Brush Script MT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eece1"/>
                </a:solidFill>
                <a:latin typeface="Brush Script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BB5C-A1AC-452F-9504-0EF57ACEA7F6}" type="slidenum">
              <a:rPr b="0" lang="en-US" sz="1600" spc="-1" strike="noStrike">
                <a:solidFill>
                  <a:srgbClr val="eeece1"/>
                </a:solidFill>
                <a:latin typeface="Brush Script MT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8191440" y="6229440"/>
            <a:ext cx="95256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0" y="6705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5"/>
          <a:stretch/>
        </p:blipFill>
        <p:spPr>
          <a:xfrm>
            <a:off x="0" y="9216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6"/>
          <a:stretch/>
        </p:blipFill>
        <p:spPr>
          <a:xfrm>
            <a:off x="8991720" y="0"/>
            <a:ext cx="152280" cy="676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7"/>
          <a:stretch/>
        </p:blipFill>
        <p:spPr>
          <a:xfrm>
            <a:off x="228600" y="6248520"/>
            <a:ext cx="10382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User\Local Settings\Temporary Internet Files\Content.IE5\STEB01UR\MCj04348230000[1].png"/>
          <p:cNvPicPr/>
          <p:nvPr/>
        </p:nvPicPr>
        <p:blipFill>
          <a:blip r:embed="rId8"/>
          <a:stretch/>
        </p:blipFill>
        <p:spPr>
          <a:xfrm>
            <a:off x="8305920" y="6095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Click to edit the outline text format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1" marL="653760" indent="-2512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con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2" marL="1005840" indent="-200880"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Third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3" marL="1407960" indent="-200880">
              <a:spcBef>
                <a:spcPts val="10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our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1810440" indent="-200880">
              <a:spcBef>
                <a:spcPts val="1001"/>
              </a:spcBef>
              <a:buClr>
                <a:srgbClr val="f2f2f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Fif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ix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Brush Script MT"/>
              </a:rPr>
              <a:t>Seventh Outline Level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12B0-B586-4B07-867D-4E0364834818}" type="slidenum"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05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FAVORITISM: 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WHY DOESN’T TEACHER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CALL ON ME? 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uri A. Schmid-Snoeck</a:t>
            </a: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ducation 702.22-Spring 2010</a:t>
            </a: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fessor O’Connor-Petruso</a:t>
            </a: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D4D3-160F-4447-B123-B43B0F441F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Statement of the Hypothesis</a:t>
            </a:r>
            <a:br>
              <a:rPr sz="4000"/>
            </a:br>
            <a:r>
              <a:rPr b="1" i="1" lang="en-US" sz="4000" spc="-1" strike="noStrike">
                <a:solidFill>
                  <a:srgbClr val="ea8edf"/>
                </a:solidFill>
                <a:latin typeface="Comic Sans MS"/>
              </a:rPr>
              <a:t>METHOD</a:t>
            </a:r>
            <a:endParaRPr b="1" i="1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Participants: X number of students in the X grade from P.S. X in Brooklyn, NY. 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The class is composed of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Brush Script MT"/>
              </a:rPr>
              <a:t>x number of girls of x, y, z ethnicity or race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Brush Script MT"/>
              </a:rPr>
              <a:t>x number of boys of x. y, z ethnicity or race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The P.S. X students belong to from X socio-economic class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The teacher/s has X number of years experience and X number of years of postgraduate education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Brush Script MT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Brush Script MT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Brush Script MT"/>
              </a:rPr>
              <a:t>	</a:t>
            </a: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Statement of the Hypothesis</a:t>
            </a:r>
            <a:br>
              <a:rPr sz="4000"/>
            </a:br>
            <a:r>
              <a:rPr b="1" i="1" lang="en-US" sz="4000" spc="-1" strike="noStrike">
                <a:solidFill>
                  <a:srgbClr val="ea8edf"/>
                </a:solidFill>
                <a:latin typeface="Comic Sans MS"/>
              </a:rPr>
              <a:t>INSTRUMENTS</a:t>
            </a:r>
            <a:endParaRPr b="1" i="1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NYC Department of Education report card to determine demographic  and economic status of P.S. X students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-32904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Consent form for the principal of P.S. X 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-32904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Form to document observation &amp; student/teacher comments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-32904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Teacher survey 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Statement of the Hypothesis</a:t>
            </a:r>
            <a:br>
              <a:rPr sz="4000"/>
            </a:br>
            <a:r>
              <a:rPr b="1" i="1" lang="en-US" sz="4000" spc="-1" strike="noStrike">
                <a:solidFill>
                  <a:srgbClr val="ea8edf"/>
                </a:solidFill>
                <a:latin typeface="Comic Sans MS"/>
              </a:rPr>
              <a:t>EXPERIMENTAL DESIGN</a:t>
            </a:r>
            <a:endParaRPr b="1" i="1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Researcher to observe class responses elicited after a read-aloud.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Document the following: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Seating arrangement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How students are called upon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Brush Script MT"/>
              </a:rPr>
              <a:t>i.e. Arbitrary teacher choice or random system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Brush Script MT"/>
              </a:rPr>
              <a:t>Do they call out; are all treated the same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Student gender, ethnicity or race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br>
              <a:rPr sz="2800"/>
            </a:br>
            <a:endParaRPr b="1" i="1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Addi-Raccah, A., &amp; Arviv-Elyashiv, R.  (2008).  Parent Empowerment and Teacher Professionalism: Teachers’ Perspectiv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Urban Education, 43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3), 394-415.                   doi: 10.1177/0042085907305037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Assouline, S.G., Colangelo, N., Ihrig, D., &amp; Forstadt, L.  (2006).  Attributional Choices for Academic Success and Failure by Intellectually Gifted Student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Gifted Child Quarterly, 50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4), 283-294.  doi: 10.1177/001698620605000402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erry, D., &amp; O’Connor, E.  (2010).  Teacher-Child Relationships, and Social Skill Development across Middle Childhood: A child-by-Environment Analysis of Chang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Applied Developmental Psychology, 31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1)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1-14.  Abstract retrieved from http://www.eric.ed.gov database.  (Accession No. ERIC #: EJ869961)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lase, J. J.  (1988).  The Politics of Favoritism:  A Qualitative analysis of the Teachers’ Perspectiv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Educational Administration Quarterly, 24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, 152-177.  doi: 10.1177/0013161X88024002005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loom, D., &amp; Golden, C.  (1982).  Literacy Learning, Classroom Processes, and Race: A Microanalytic Study of Two Desegregated Classroom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Black Studies, 13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, 207-226.  doi: 10.1177/002193478201300205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rantlinger, E.  (1985).  Low-Income Parents’ Perceptions of Favoritism in the School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Urban Education,20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1), 82-102.  doi: 10.1177/004208598502000106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br>
              <a:rPr sz="2800"/>
            </a:br>
            <a:endParaRPr b="1" i="1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Butterman, E.  (2007).  Playing Favorites?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Instructor, 116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6)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39-41.  Abstract retrieved from http://www.eric.ed.gov database.  (Accession No. ERIC #: EJ792935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Daniels, H., Creese, A., Hey, V., Leonard, D., &amp; Smith, M.  (2001).  Gender and Learning: Equity, Equality and Pedagogy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Support for Learning, 16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3), 112-116. http://web.ebscohost.com.ez-proxy.brooklyn.cuny.edu:2048/ehost/pdf?vid=3&amp;hid=15&amp;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sid=748495d8-9949-4d6f-88a1-0a59bdd377b1%40sessionmgr13 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Davies, J. &amp; Brember, I. (1999).  Boys Outperforming Girls: an 8 –year cross-sectional study of attainment and self-esteem in Year 6.  Educational Psychology, 19(1), 5-16 http://web.ebscohost.com.ez-proxy.brooklyn.cuny.edu:2048/ehost/ pdf?vid=7&amp;hid=15&amp; sid=748495d8-9949-4d6f-88a1-0a59bdd377b1%40sessionmgr13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900" spc="-1" strike="noStrike">
                <a:solidFill>
                  <a:srgbClr val="f2f2f2"/>
                </a:solidFill>
                <a:latin typeface="Times New Roman"/>
              </a:rPr>
              <a:t>Egan, T. M., Cobb, B., &amp; Anastasia, M. 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009).  Think Tim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Staff Development,30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4) 40-2, 44-5.  http://vnweb.hwwilsonweb.com.ez-proxy.brooklyn cuny.edu:2048.hww.results.getResults.jhtml?_DARGS=/hww/results/results_common.jhtml.33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Gallagher, K. C., &amp; Mayer, K. (2008).  Enhancing Development and Learning through Teacher-Child Relationship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Young Children, 63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6), 80-87.  http://web.ebscohot.com.ez-proxy.brooklyn.cuny.edu:2048/ehost/pdf?vid=68&amp;hid=2&amp;sid=476aa9d4-1ba9-4838-9f18-002efa5b027e%40sessionmgr10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br>
              <a:rPr sz="2800"/>
            </a:br>
            <a:endParaRPr b="1" i="1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Haydon, T., Mancil, G. R., &amp; Van Loan, C.  (2009).  Using Opportunities to Respond in a General Education Classroom: A Case Study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Education and Treatment of Children, 32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267-278.  doi: 10.1353/etc.0.0052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Houston, M. B., &amp; Bettencourt, L. A.  (1999).  But That’s Not Fair! An Exploratory Study of Student Perceptions of Instructor Fairnes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Marketing Education, 21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, 84-96.  doi: 10.1177/0273475399212002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Koepke, M. F., &amp; Harkins, D. A.  (2008).  Conflict in the Classroom: Gender Differences in the Teacher-Child Relationship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Early Education and Development 19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6), 843-864. doi: 10.1080/10409280802516108  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Levinson, B. A.  (1998).  The Moral Construction of Student Rights: Discourse and Judgment among Mexican Secondary School Student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Contemporary Ethnography, 27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1), 45-84.  doi: 10.1177/089124198027001003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Logan, S., &amp; Johnston, R.  (2009).  Gender Differences in Reading Ability and Attitudes: Examining where These Differences Lie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Research in Reading, 32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2)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199-214.  doi: 10.111/j.1467-9817.2008.01389.x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McLaughlin, H. J.  (1991).  Reconciling Care and Control: Authority in Classroom Relationship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Journal of Teacher Education, 42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3), 182-195.                           doi: 10.1177/002248719104200304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Merrett, F. &amp; Wheldall, K.  (1992).  Teachers’ use of praise and reprimands to boys and girls.  </a:t>
            </a:r>
            <a:r>
              <a:rPr b="0" i="1" lang="en-US" sz="1900" spc="-1" strike="noStrike">
                <a:solidFill>
                  <a:srgbClr val="f2f2f2"/>
                </a:solidFill>
                <a:latin typeface="Times New Roman"/>
              </a:rPr>
              <a:t>Educational Review 44</a:t>
            </a:r>
            <a:r>
              <a:rPr b="0" lang="en-US" sz="1900" spc="-1" strike="noStrike">
                <a:solidFill>
                  <a:srgbClr val="f2f2f2"/>
                </a:solidFill>
                <a:latin typeface="Times New Roman"/>
              </a:rPr>
              <a:t>(1), 73-80.  http://web.ebscohost.com.ez-proxy.brooklyn.cuny.edu:2048/ehost/pdfviewer/pdfviewer?vid=13&amp;hid=119&amp;sid=927cbd44-efbc-4ec8-b93f-8fe85022209a%40sessionmgr114</a:t>
            </a: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  <a:p>
            <a:pPr marL="315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br>
              <a:rPr sz="2800"/>
            </a:br>
            <a:endParaRPr b="1" i="1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Newberry, M., &amp; Davis, H. A.  (2008).  The Role of Elementary Teachers' Conceptions of Closeness to Students on Their Differential Behaviour in the Classroom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Teaching and Teacher Education: An International Journal of Research and Studies, 24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8), 1965-1985.  doi: 10.1016/j.tate.2008.02.015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Opoku-Amankwa, K.  (2009).  “Teacher Only Calls Her Pets”: Teacher’s Selective Attention and the Invisible Life of a Diverse Classroom in Ghana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Language and Education, 23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3)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249-262.  doi: 10.1080/09500780802582539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Sadker, M., Sadker, D. &amp; Klein, S.  (1991).  Chapter 7: The Issue of Gender in Elementary and Secondary Education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Review of Research in Education, 17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, 269-334.  doi: 10.3102/0091732X017001269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Sockett, H.  (2009).  Dispositions as Virtues: The Complexity of the Construct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Journal of Teacher Education.  60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3), 291-303.  doi10.1177/0022487109335189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Stake, J. E. &amp; Katz, J. F.  (1982).  Teacher-Pupil Relationships in the Elementary School Classroom: Teacher-Gender and Pupil-Gender Differences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American Educational Research Journal, 19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3), 465-471.  doi:10.3102/00028312019003465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Sunderland, J.  (2000).  New Understandings of Gender and Language Classroom Research: texts, teacher talk and student talk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Language Teaching Research 4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2), 149-173.  doi:  10.1177/136216880000400204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Yepez, M. E.  (1994).  An Observation of Gender-Specific Teacher Behavior in the ESL Classroom.  </a:t>
            </a:r>
            <a:r>
              <a:rPr b="0" i="1" lang="en-US" sz="1800" spc="-1" strike="noStrike">
                <a:solidFill>
                  <a:srgbClr val="f2f2f2"/>
                </a:solidFill>
                <a:latin typeface="Times New Roman"/>
              </a:rPr>
              <a:t>Sex Roles, 30</a:t>
            </a:r>
            <a:r>
              <a:rPr b="0" lang="en-US" sz="1800" spc="-1" strike="noStrike">
                <a:solidFill>
                  <a:srgbClr val="f2f2f2"/>
                </a:solidFill>
                <a:latin typeface="Times New Roman"/>
              </a:rPr>
              <a:t>(1/2), 121-133.  http://web.ebscohost.com.ez-proxy.brooklyn.cuny.edu:2048/ehost/pdfviewer/pdfviewer?vid=13&amp;hid=119&amp;sid=927cbd44-efbc-4ec8-b93f-8fe85022209a%40sessionmgr114</a:t>
            </a:r>
            <a:endParaRPr b="0" lang="en-US" sz="18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Table of Contents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Introduction 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Statement of the Problem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Review of Related Literature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5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Statement of Hypothesis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7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3" marL="155196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Method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3" marL="155196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Instruments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9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3" marL="1551960" indent="-22140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Experimental Design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10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References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11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B348-EED0-4634-B1F9-4EDDD035C210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Introduction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Favoritism is part of life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Teachers hold a powerful position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Reasons for favoritism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Brush Script MT"/>
              </a:rPr>
              <a:t>A rose by any other name…a matter of semantics</a:t>
            </a:r>
            <a:endParaRPr b="0" lang="en-US" sz="3600" spc="-1" strike="noStrike">
              <a:solidFill>
                <a:srgbClr val="f2f2f2"/>
              </a:solidFill>
              <a:latin typeface="Brush Script MT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Brush Script MT"/>
              </a:rPr>
              <a:t>Favoritism aka: selective attention; gender-race bias; differential teacher treatment; discrimination…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STATEMENT OF THE PROBLEM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d9f1"/>
                </a:solidFill>
                <a:latin typeface="Comic Sans MS"/>
              </a:rPr>
              <a:t>FAVORITISM :  </a:t>
            </a:r>
            <a:r>
              <a:rPr b="0" lang="en-US" sz="3300" spc="-1" strike="noStrike">
                <a:solidFill>
                  <a:srgbClr val="c6d9f1"/>
                </a:solidFill>
                <a:latin typeface="Comic Sans MS"/>
              </a:rPr>
              <a:t>The literature indicates  that failure to create close teacher-child relationships results in</a:t>
            </a:r>
            <a:endParaRPr b="0" lang="en-US" sz="33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negative impact on growth of social skills  and self-confidence</a:t>
            </a: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marginalized and differentiated teaching behaviors </a:t>
            </a: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lower academic achievement</a:t>
            </a: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greater levels of conflict and aggression in the classroom</a:t>
            </a: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  <a:p>
            <a:pPr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B989-3407-4F1E-9A11-6085B5D01788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Literature Review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1219320"/>
            <a:ext cx="92962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8edf"/>
                </a:solidFill>
                <a:latin typeface="Comic Sans MS"/>
              </a:rPr>
              <a:t>WHAT IS FAVORITISM</a:t>
            </a:r>
            <a:endParaRPr b="0" lang="en-US" sz="44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Comic Sans MS"/>
              </a:rPr>
              <a:t>Selective attention given by someone in power (i.e. teacher) to another less powerful person (i.e. student), selected from a group of two or more and where the student has a better outcome than another. </a:t>
            </a:r>
            <a:endParaRPr b="0" lang="en-US" sz="4000" spc="-1" strike="noStrike">
              <a:solidFill>
                <a:srgbClr val="f2f2f2"/>
              </a:solidFill>
              <a:latin typeface="Brush Script MT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A10D-EDFD-4671-A198-99A26D30B870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Literature Review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18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8edf"/>
                </a:solidFill>
                <a:latin typeface="Comic Sans MS"/>
              </a:rPr>
              <a:t>What does favoritism look like?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762120" indent="-76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btle-teachers and even students may not be aware (Bloom &amp; Golden, 1982)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vorites: Studies show we make up our minds about people within seven seconds of meeting them (Butterman, 2007)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762120" indent="-76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bridled and blatant-students are aware of the teacher’s pets and their standing in the classroom (Opoku-Amankwa, 2009)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lvl="2" marL="152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9"/>
                </a:solidFill>
                <a:latin typeface="Comic Sans MS"/>
              </a:rPr>
              <a:t>Literature Review</a:t>
            </a:r>
            <a:endParaRPr b="1" i="1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8edf"/>
                </a:solidFill>
                <a:latin typeface="Comic Sans MS"/>
              </a:rPr>
              <a:t>POSSIBLE CAUSES OF FAVORITISM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WER: Teachers as the ‘authoritative identity’ (Opoku-Amankwa, 2009) or “despotic” (Levinson, 1998)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CONSCIOUSLY RELATE: student may remind us of ourselves or someone we know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THNICITY &amp; RACIAL BACKGROUND:</a:t>
            </a:r>
            <a:endParaRPr b="0" lang="en-US" sz="24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 are socialized to relate to each other based on race, class, and so on” (Butterman, 2007)</a:t>
            </a: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nority group students, both male and female, receive less teacher attention than majority group students (Brophy &amp; Good, 1974; Rubovits &amp; Maehr, 1973; M. Sadker &amp; Sadker, 1984)”  (Sadker, Sadker &amp; Klein, 1991). </a:t>
            </a: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ulture and ethnicity are associated with differences in aspects of children’s relationships with teachers…” (Gallagher &amp; Mayer, 2008) </a:t>
            </a: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f2f2"/>
              </a:solidFill>
              <a:latin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Literature Review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9280" y="1197000"/>
            <a:ext cx="9498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8edf"/>
                </a:solidFill>
                <a:latin typeface="Comic Sans MS"/>
              </a:rPr>
              <a:t>AVOIDING FAVORITISM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niels et al (2001) studied how “to treat all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ildren fairly”.  The research suggests that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chers must understand and reflect upon their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management style,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teaching strategies,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responsibility to grow as professionals,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power and recognize their impact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fluence ov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udents.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Butterman, 2007; Egan &amp; Anastasia, 2009; Haydon et al, 2009; Newberry &amp; Davis, 2008)</a:t>
            </a:r>
            <a:endParaRPr b="0" lang="en-US" sz="22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152E-4DC2-47F3-9E06-03CEEAFAE67D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82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Comic Sans MS"/>
              </a:rPr>
              <a:t>Statement of the Hypothesis</a:t>
            </a:r>
            <a:endParaRPr b="1" i="1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HR1: X number of teachers may be unaware of practices of favoritism in their classroom and the impact on x number of students during a read-aloud session.  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A change in classroom management or practice may improve classroom equity and fairness and avoid the appearance of favoritism. </a:t>
            </a:r>
            <a:endParaRPr b="0" lang="en-US" sz="3200" spc="-1" strike="noStrike">
              <a:solidFill>
                <a:srgbClr val="f2f2f2"/>
              </a:solidFill>
              <a:latin typeface="Brush Script MT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1219320" y="6248520"/>
            <a:ext cx="167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772400" y="6248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409D-3C43-4275-A054-8CD4E73DA337}" type="slidenum">
              <a:rPr b="1" lang="en-US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8:06:59Z</dcterms:created>
  <dc:creator>HP Authorized Customer</dc:creator>
  <dc:description/>
  <dc:language>en-US</dc:language>
  <cp:lastModifiedBy>HP Authorized Customer</cp:lastModifiedBy>
  <dcterms:modified xsi:type="dcterms:W3CDTF">2010-05-25T21:22:05Z</dcterms:modified>
  <cp:revision>2</cp:revision>
  <dc:subject/>
  <dc:title>FAVORITISM:  WHY DOESN’T TEACHER CALL ON ME?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671033</vt:lpwstr>
  </property>
</Properties>
</file>